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67DA-FF4B-4C1E-83DD-14890ED55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C34E-FE92-4898-8F44-0137417B1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474E-ECF6-4923-AB1F-E96966405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CC5D-2A09-452D-B2F6-4D6E8307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334-554A-4CB2-82F5-4AA76761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5DB3-9BEC-43A6-8F8E-401CA72C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3A6-8367-4EB1-995B-1028F751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0ABB-4D78-47AF-A0D0-8B094668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06D-4E42-483A-9CA3-CF5E116F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9A1-4224-44F9-82B6-AE3015BC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BED-E9E8-47EA-A7E9-DB2D5F28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F609-4DB1-4FA8-ABD8-A78D8621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C90F-C0E6-412A-853D-E271A934B4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62440" y="765000"/>
            <a:ext cx="1275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lS DRM/DRM+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tent-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20680" y="1814400"/>
            <a:ext cx="135864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park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FDM-Mod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1960" y="1814400"/>
            <a:ext cx="877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&amp;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U200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572000" y="1779480"/>
            <a:ext cx="936720" cy="534960"/>
            <a:chOff x="4572000" y="1779480"/>
            <a:chExt cx="936720" cy="534960"/>
          </a:xfrm>
        </p:grpSpPr>
        <p:sp>
          <p:nvSpPr>
            <p:cNvPr id="45" name=""/>
            <p:cNvSpPr/>
            <p:nvPr/>
          </p:nvSpPr>
          <p:spPr>
            <a:xfrm>
              <a:off x="4572000" y="1779480"/>
              <a:ext cx="936720" cy="53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03920" y="1929960"/>
              <a:ext cx="272880" cy="234720"/>
            </a:xfrm>
            <a:custGeom>
              <a:avLst/>
              <a:gdLst/>
              <a:ahLst/>
              <a:rect l="l" t="t" r="r" b="b"/>
              <a:pathLst>
                <a:path w="226" h="288">
                  <a:moveTo>
                    <a:pt x="0" y="0"/>
                  </a:moveTo>
                  <a:lnTo>
                    <a:pt x="226" y="149"/>
                  </a:lnTo>
                  <a:lnTo>
                    <a:pt x="1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156360" y="1628640"/>
            <a:ext cx="609480" cy="838080"/>
            <a:chOff x="6156360" y="1628640"/>
            <a:chExt cx="609480" cy="838080"/>
          </a:xfrm>
        </p:grpSpPr>
        <p:sp>
          <p:nvSpPr>
            <p:cNvPr id="48" name=""/>
            <p:cNvSpPr/>
            <p:nvPr/>
          </p:nvSpPr>
          <p:spPr>
            <a:xfrm>
              <a:off x="6156360" y="1628640"/>
              <a:ext cx="609480" cy="838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32320" y="1704960"/>
              <a:ext cx="456840" cy="25380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112"/>
                  </a:moveTo>
                  <a:cubicBezTo>
                    <a:pt x="28" y="56"/>
                    <a:pt x="56" y="0"/>
                    <a:pt x="96" y="16"/>
                  </a:cubicBezTo>
                  <a:cubicBezTo>
                    <a:pt x="136" y="32"/>
                    <a:pt x="200" y="192"/>
                    <a:pt x="240" y="208"/>
                  </a:cubicBezTo>
                  <a:cubicBezTo>
                    <a:pt x="280" y="224"/>
                    <a:pt x="320" y="128"/>
                    <a:pt x="336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32320" y="1908000"/>
              <a:ext cx="456840" cy="25416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112"/>
                  </a:moveTo>
                  <a:cubicBezTo>
                    <a:pt x="28" y="56"/>
                    <a:pt x="56" y="0"/>
                    <a:pt x="96" y="16"/>
                  </a:cubicBezTo>
                  <a:cubicBezTo>
                    <a:pt x="136" y="32"/>
                    <a:pt x="200" y="192"/>
                    <a:pt x="240" y="208"/>
                  </a:cubicBezTo>
                  <a:cubicBezTo>
                    <a:pt x="280" y="224"/>
                    <a:pt x="320" y="128"/>
                    <a:pt x="336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32320" y="2111040"/>
              <a:ext cx="456840" cy="254160"/>
            </a:xfrm>
            <a:custGeom>
              <a:avLst/>
              <a:gdLst/>
              <a:ahLst/>
              <a:rect l="l" t="t" r="r" b="b"/>
              <a:pathLst>
                <a:path w="336" h="224">
                  <a:moveTo>
                    <a:pt x="0" y="112"/>
                  </a:moveTo>
                  <a:cubicBezTo>
                    <a:pt x="28" y="56"/>
                    <a:pt x="56" y="0"/>
                    <a:pt x="96" y="16"/>
                  </a:cubicBezTo>
                  <a:cubicBezTo>
                    <a:pt x="136" y="32"/>
                    <a:pt x="200" y="192"/>
                    <a:pt x="240" y="208"/>
                  </a:cubicBezTo>
                  <a:cubicBezTo>
                    <a:pt x="280" y="224"/>
                    <a:pt x="320" y="128"/>
                    <a:pt x="336" y="112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6346440" y="2136240"/>
              <a:ext cx="15228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6410160" y="1755360"/>
              <a:ext cx="15192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7236000" y="1859040"/>
            <a:ext cx="617400" cy="457200"/>
            <a:chOff x="7236000" y="1859040"/>
            <a:chExt cx="617400" cy="457200"/>
          </a:xfrm>
        </p:grpSpPr>
        <p:sp>
          <p:nvSpPr>
            <p:cNvPr id="55" name=""/>
            <p:cNvSpPr/>
            <p:nvPr/>
          </p:nvSpPr>
          <p:spPr>
            <a:xfrm>
              <a:off x="7236000" y="1859040"/>
              <a:ext cx="60948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48600" y="2011320"/>
              <a:ext cx="604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259760" y="2075040"/>
              <a:ext cx="287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53520" y="208764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172000" y="1197000"/>
            <a:ext cx="304200" cy="838080"/>
            <a:chOff x="8172000" y="1197000"/>
            <a:chExt cx="304200" cy="838080"/>
          </a:xfrm>
        </p:grpSpPr>
        <p:sp>
          <p:nvSpPr>
            <p:cNvPr id="60" name=""/>
            <p:cNvSpPr/>
            <p:nvPr/>
          </p:nvSpPr>
          <p:spPr>
            <a:xfrm flipH="1" flipV="1">
              <a:off x="8172000" y="11970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8323920" y="11970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24640" y="119700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3" name=""/>
          <p:cNvCxnSpPr>
            <a:stCxn id="41" idx="2"/>
            <a:endCxn id="42" idx="0"/>
          </p:cNvCxnSpPr>
          <p:nvPr/>
        </p:nvCxnSpPr>
        <p:spPr>
          <a:xfrm>
            <a:off x="1800000" y="1224000"/>
            <a:ext cx="360" cy="59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2" idx="3"/>
            <a:endCxn id="43" idx="1"/>
          </p:cNvCxnSpPr>
          <p:nvPr/>
        </p:nvCxnSpPr>
        <p:spPr>
          <a:xfrm>
            <a:off x="2479320" y="2043720"/>
            <a:ext cx="513000" cy="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3" idx="3"/>
            <a:endCxn id="45" idx="1"/>
          </p:cNvCxnSpPr>
          <p:nvPr/>
        </p:nvCxnSpPr>
        <p:spPr>
          <a:xfrm>
            <a:off x="3869280" y="2043720"/>
            <a:ext cx="703080" cy="3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5" idx="3"/>
            <a:endCxn id="48" idx="1"/>
          </p:cNvCxnSpPr>
          <p:nvPr/>
        </p:nvCxnSpPr>
        <p:spPr>
          <a:xfrm>
            <a:off x="5508720" y="2046960"/>
            <a:ext cx="6480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48" idx="3"/>
            <a:endCxn id="55" idx="1"/>
          </p:cNvCxnSpPr>
          <p:nvPr/>
        </p:nvCxnSpPr>
        <p:spPr>
          <a:xfrm>
            <a:off x="6765840" y="2047680"/>
            <a:ext cx="4705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5" idx="3"/>
            <a:endCxn id="62" idx="0"/>
          </p:cNvCxnSpPr>
          <p:nvPr/>
        </p:nvCxnSpPr>
        <p:spPr>
          <a:xfrm flipV="1">
            <a:off x="7845480" y="2034360"/>
            <a:ext cx="479520" cy="1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endCxn id="41" idx="0"/>
          </p:cNvCxnSpPr>
          <p:nvPr/>
        </p:nvCxnSpPr>
        <p:spPr>
          <a:xfrm flipH="1">
            <a:off x="1800000" y="301320"/>
            <a:ext cx="5040" cy="464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1112760" y="333360"/>
            <a:ext cx="19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llen     (Audio / Da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9320" y="1341360"/>
            <a:ext cx="129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DI-Datenst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6520" y="20019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/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34160" y="20606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26560" y="2421000"/>
            <a:ext cx="130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stärkerstuf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19280" y="2852640"/>
            <a:ext cx="4105080" cy="1944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26560" y="1222200"/>
            <a:ext cx="304200" cy="838080"/>
            <a:chOff x="826560" y="1222200"/>
            <a:chExt cx="304200" cy="838080"/>
          </a:xfrm>
        </p:grpSpPr>
        <p:sp>
          <p:nvSpPr>
            <p:cNvPr id="77" name=""/>
            <p:cNvSpPr/>
            <p:nvPr/>
          </p:nvSpPr>
          <p:spPr>
            <a:xfrm flipH="1" flipV="1">
              <a:off x="826560" y="12222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978480" y="1222200"/>
              <a:ext cx="152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79200" y="1222200"/>
              <a:ext cx="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1720440" y="1735200"/>
            <a:ext cx="104652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-Fronten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mel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TR42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10160" y="1827360"/>
            <a:ext cx="1674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icrotelcom Perseus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gital Downconve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08720" y="3213000"/>
            <a:ext cx="16772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atemonkey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chtzeit Abtastraten-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onvert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kl. Automatisch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erstärkungsrege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2120" y="3486240"/>
            <a:ext cx="8953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S DRM+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9240" y="4941720"/>
            <a:ext cx="1881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RM+-Multiplexdate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Verarbeitung durch z.B.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diodekodersoftw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9" idx="0"/>
            <a:endCxn id="80" idx="1"/>
          </p:cNvCxnSpPr>
          <p:nvPr/>
        </p:nvCxnSpPr>
        <p:spPr>
          <a:xfrm flipV="1">
            <a:off x="979560" y="2060280"/>
            <a:ext cx="737280" cy="10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86" name=""/>
          <p:cNvCxnSpPr>
            <a:stCxn id="79" idx="1"/>
            <a:endCxn id="80" idx="1"/>
          </p:cNvCxnSpPr>
          <p:nvPr/>
        </p:nvCxnSpPr>
        <p:spPr>
          <a:xfrm flipV="1">
            <a:off x="979560" y="2060280"/>
            <a:ext cx="737280" cy="10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0" idx="3"/>
            <a:endCxn id="81" idx="1"/>
          </p:cNvCxnSpPr>
          <p:nvPr/>
        </p:nvCxnSpPr>
        <p:spPr>
          <a:xfrm>
            <a:off x="2771640" y="2060280"/>
            <a:ext cx="9374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1" idx="2"/>
            <a:endCxn id="82" idx="0"/>
          </p:cNvCxnSpPr>
          <p:nvPr/>
        </p:nvCxnSpPr>
        <p:spPr>
          <a:xfrm>
            <a:off x="4547880" y="2293560"/>
            <a:ext cx="1080" cy="9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2" idx="1"/>
            <a:endCxn id="83" idx="3"/>
          </p:cNvCxnSpPr>
          <p:nvPr/>
        </p:nvCxnSpPr>
        <p:spPr>
          <a:xfrm flipH="1" flipV="1">
            <a:off x="2743920" y="3719160"/>
            <a:ext cx="9644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5075640" y="4522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p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3" idx="2"/>
            <a:endCxn id="84" idx="1"/>
          </p:cNvCxnSpPr>
          <p:nvPr/>
        </p:nvCxnSpPr>
        <p:spPr>
          <a:xfrm>
            <a:off x="2290320" y="3952800"/>
            <a:ext cx="2520" cy="1310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1017720" y="2060640"/>
            <a:ext cx="38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29400" y="2060640"/>
            <a:ext cx="31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000" y="2349360"/>
            <a:ext cx="988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/Q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tastwe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14:10:36Z</dcterms:created>
  <dc:creator>Felix Schad</dc:creator>
  <dc:description/>
  <dc:language>en-US</dc:language>
  <cp:lastModifiedBy>Felix Schad</cp:lastModifiedBy>
  <dcterms:modified xsi:type="dcterms:W3CDTF">2009-08-26T14:50:08Z</dcterms:modified>
  <cp:revision>12</cp:revision>
  <dc:subject/>
  <dc:title>Folie 1</dc:title>
</cp:coreProperties>
</file>